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9958388" cy="14414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957600" cy="144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14960" cy="72072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buNone/>
              <a:tabLst>
                <a:tab algn="l" pos="0"/>
                <a:tab algn="l" pos="1392120"/>
                <a:tab algn="l" pos="2784600"/>
                <a:tab algn="l" pos="4176720"/>
                <a:tab algn="l" pos="5568840"/>
                <a:tab algn="l" pos="6961320"/>
                <a:tab algn="l" pos="8353440"/>
                <a:tab algn="l" pos="974556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5641920" y="0"/>
            <a:ext cx="4314960" cy="72072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lstStyle>
            <a:lvl1pPr indent="0" algn="r">
              <a:buNone/>
              <a:tabLst>
                <a:tab algn="l" pos="0"/>
                <a:tab algn="l" pos="1392120"/>
                <a:tab algn="l" pos="2784600"/>
                <a:tab algn="l" pos="4176720"/>
                <a:tab algn="l" pos="5568840"/>
                <a:tab algn="l" pos="6961320"/>
                <a:tab algn="l" pos="8353440"/>
                <a:tab algn="l" pos="9745560"/>
              </a:tabLst>
              <a:defRPr b="0" lang="en-US" sz="24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92120"/>
                <a:tab algn="l" pos="2784600"/>
                <a:tab algn="l" pos="4176720"/>
                <a:tab algn="l" pos="5568840"/>
                <a:tab algn="l" pos="6961320"/>
                <a:tab algn="l" pos="8353440"/>
                <a:tab algn="l" pos="974556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4840" y="1082160"/>
            <a:ext cx="7207200" cy="540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2"/>
          </p:nvPr>
        </p:nvSpPr>
        <p:spPr>
          <a:xfrm>
            <a:off x="0" y="13693680"/>
            <a:ext cx="4314960" cy="72072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b">
            <a:noAutofit/>
          </a:bodyPr>
          <a:lstStyle>
            <a:lvl1pPr indent="0">
              <a:buNone/>
              <a:tabLst>
                <a:tab algn="l" pos="0"/>
                <a:tab algn="l" pos="1392120"/>
                <a:tab algn="l" pos="2784600"/>
                <a:tab algn="l" pos="4176720"/>
                <a:tab algn="l" pos="5568840"/>
                <a:tab algn="l" pos="6961320"/>
                <a:tab algn="l" pos="8353440"/>
                <a:tab algn="l" pos="9745560"/>
              </a:tabLst>
              <a:defRPr b="0" lang="en-US" sz="24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92120"/>
                <a:tab algn="l" pos="2784600"/>
                <a:tab algn="l" pos="4176720"/>
                <a:tab algn="l" pos="5568840"/>
                <a:tab algn="l" pos="6961320"/>
                <a:tab algn="l" pos="8353440"/>
                <a:tab algn="l" pos="974556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3"/>
          </p:nvPr>
        </p:nvSpPr>
        <p:spPr>
          <a:xfrm>
            <a:off x="5641920" y="13693680"/>
            <a:ext cx="4314960" cy="72072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b">
            <a:noAutofit/>
          </a:bodyPr>
          <a:lstStyle>
            <a:lvl1pPr indent="0" algn="r">
              <a:buNone/>
              <a:tabLst>
                <a:tab algn="l" pos="0"/>
                <a:tab algn="l" pos="1392120"/>
                <a:tab algn="l" pos="2784600"/>
                <a:tab algn="l" pos="4176720"/>
                <a:tab algn="l" pos="5568840"/>
                <a:tab algn="l" pos="6961320"/>
                <a:tab algn="l" pos="8353440"/>
                <a:tab algn="l" pos="9745560"/>
              </a:tabLst>
              <a:defRPr b="0" lang="en-US" sz="24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92120"/>
                <a:tab algn="l" pos="2784600"/>
                <a:tab algn="l" pos="4176720"/>
                <a:tab algn="l" pos="5568840"/>
                <a:tab algn="l" pos="6961320"/>
                <a:tab algn="l" pos="8353440"/>
                <a:tab algn="l" pos="9745560"/>
              </a:tabLst>
            </a:pPr>
            <a:fld id="{97F0DB95-5224-438D-B6BB-8298F11ADB5B}" type="slidenum"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demonstrating the application of this framework using a simple left ventricular electromechanics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arrows fibre direction, green sheet, blue sheet-norm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urface indicates sepatal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BC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nodes fixed in all three directions and transmural and circumferential derivatives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apex nodes fixed in y and z but free to slide along x-ax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BC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kinje-like electrical stimulus, colours represent time of applied stim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earliest stimulus time (0ms) (lower mid-septal wal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latest stimulus time (16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 bands in 2ms ste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its have no stimulus appl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stitutive law (pole-zero) parameters vary linearly between nodes with the different coloured nodes having different parameter s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ll model varies for the different cell types (endo/mid/ep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start doing some cool – and perhaps relevant – simulation studi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done some very preliminary work looking at adding papillary muscle to the ventricular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removed local bulging of the endocardial surface to approximate taking the flattened papillaries out of the m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n added an initial papillary muscle mesh connected to the endocardial surface, trying to maintain derivative continuity with the endocardial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ne needs a bit more work – hopefully you’ll be out of time by now and just flash it up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one else you can think of? do you have a better wellcome logo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nodes * 27 degrees of freedom = 4212 DoF’s to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basal portion of septal wall and connecting tissue between LV infow and outflow valves are not connected to the rest of the ventriclular me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attened papillary muscles give rise to abnormal stress distributions in those regions of the wall due to incorrect increase of wall thick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h topology no good, for example, for electrophysiological simulations without some serious reworking of computational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problems with it, but it does look cool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 model has removed tissue mass from ventricular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h topology pretty much follows standard elements required for electrophysiological/coupled sim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3nodes * 27 degrees of freedom = 10341 total DoF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 lines running along the fibres aligned with the sheets (i.e., the flat part of the ribbons is aligned with the shee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on the endocardial surface, light brown/tan midwall (approximately) and blue epicard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will work out how to make this a movie showing the she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8360" y="4190760"/>
            <a:ext cx="8280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836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0132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58080" y="152388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58160" y="152388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58360" y="419076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58080" y="419076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58160" y="419076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41200"/>
            <a:ext cx="5486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836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0132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58360" y="4190760"/>
            <a:ext cx="8280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8360" y="4190760"/>
            <a:ext cx="8280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836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80132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58080" y="152388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58160" y="152388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58360" y="419076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58080" y="419076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58160" y="419076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33520" y="241200"/>
            <a:ext cx="5486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5836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0132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58360" y="4190760"/>
            <a:ext cx="8280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-838080" y="5596920"/>
            <a:ext cx="2057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ity of Auck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-555480" y="3686040"/>
            <a:ext cx="1511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engineering Instit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596520" y="2079360"/>
            <a:ext cx="1600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CB Munich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6480" y="3041640"/>
            <a:ext cx="3081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3240" y="4641840"/>
            <a:ext cx="3081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65040" y="-324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63600" y="1353960"/>
            <a:ext cx="878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63600" y="1295280"/>
            <a:ext cx="878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-4680" y="1349280"/>
            <a:ext cx="3078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-4680" y="1292400"/>
            <a:ext cx="30780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440" y="1600200"/>
            <a:ext cx="547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-1203120" y="5283000"/>
            <a:ext cx="274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ity of Auck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450720" y="5713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6480" y="3943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994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8280" y="3943440"/>
            <a:ext cx="877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8280" y="3994200"/>
            <a:ext cx="877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35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03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8280" y="1349280"/>
            <a:ext cx="877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8280" y="1400040"/>
            <a:ext cx="877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1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74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9440" y="1600200"/>
            <a:ext cx="547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ltiscale modelling of cardiac mechan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3048120"/>
            <a:ext cx="5479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vid Nickerson, Carey Stevens, Martyn Nash, Peter H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81320" y="6377040"/>
            <a:ext cx="496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th World Congress of Biomechanics, Munich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putational modelling and simulation fra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MIS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www.cmiss.org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for the description of geometric models &amp; numerical simul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ellM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www.cellml.org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for the specification of most simulation specific mathematical model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itutive law, cellular mode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-and-play with new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d in several case-studies to dat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itutive law investigations in breast and cardiac tiss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letal muscle mechanics and joint kinematic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mechanical studies of a left ventricular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mple left ventricular electromechanical model: geome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11240" y="1432080"/>
            <a:ext cx="53197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12920" y="1409760"/>
            <a:ext cx="3268440" cy="32684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mple left ventricular electromechanical model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868480" y="3657600"/>
            <a:ext cx="6207120" cy="310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639600" y="140976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placement B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4440" y="636444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ectrical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9800" y="1504800"/>
            <a:ext cx="4205520" cy="4205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mple left ventricular electromechanical model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al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24360" y="151920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291360" y="592128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ell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6320" y="592128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chanical stiff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mple left ventricular electromechanical model: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807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44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mple left ventricular electromechanical model: biventricular pa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807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949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work: papillary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49280" y="1467000"/>
            <a:ext cx="5083200" cy="5083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00760" y="1676520"/>
            <a:ext cx="381132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work: the heart Physiome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30440" y="1454040"/>
            <a:ext cx="366228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ioengineering Institute @ The University of Auckl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025640" y="2044800"/>
            <a:ext cx="16286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rcine ventricular geometr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geometric mod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geometry, new top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utational modelling and simulation framewor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ture work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illary musc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eart Physiom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isting Auckland porcine ventricular geometry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representation of ventricular geometry including the apex, valve rings, and underlying tissue microstructu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8 cubic Hermite finite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valve plane not connected to ventric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illary muscle tissue flattened against endocardial surf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ical issues with mesh topology for other types of simulati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17800" y="1547640"/>
            <a:ext cx="5110200" cy="5110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ginal Auckland porcine ventricular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Auckland porcine ventricular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-engineered to take advantage of availability of increased computational pow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compensate for some of the disadvantages of the original mode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s good representation of ventricular geometry including the apex, valve rings, and underlying tissue microstructu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ntegrated valve pla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ning of a papillary geometr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h topology consistent with other applicati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 cubic Hermite finit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ricular geometric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03680" y="1461960"/>
            <a:ext cx="4451400" cy="4451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0720" y="1461960"/>
            <a:ext cx="44514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14840" y="1465200"/>
            <a:ext cx="4441680" cy="444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49280" y="1465200"/>
            <a:ext cx="4441680" cy="4442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ricular geometric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13400" y="1467000"/>
            <a:ext cx="4441680" cy="4441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9280" y="1465200"/>
            <a:ext cx="4441680" cy="44420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ssue micro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ssue micro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08080" y="1476360"/>
            <a:ext cx="512784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14:08:30Z</dcterms:created>
  <dc:creator>Sam Brodie</dc:creator>
  <dc:description/>
  <dc:language>en-US</dc:language>
  <cp:lastModifiedBy>David Phillip Nickerson</cp:lastModifiedBy>
  <dcterms:modified xsi:type="dcterms:W3CDTF">2006-07-24T14:08:37Z</dcterms:modified>
  <cp:revision>201</cp:revision>
  <dc:subject/>
  <dc:title>PowerPoint Presentation</dc:title>
</cp:coreProperties>
</file>