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958388" cy="1441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957600" cy="144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5641920" y="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lstStyle>
            <a:lvl1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4840" y="1082160"/>
            <a:ext cx="7207200" cy="540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0" y="1369368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b">
            <a:noAutofit/>
          </a:bodyPr>
          <a:lstStyle>
            <a:lvl1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5641920" y="13693680"/>
            <a:ext cx="4314960" cy="72072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b">
            <a:noAutofit/>
          </a:bodyPr>
          <a:lstStyle>
            <a:lvl1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  <a:defRPr b="0" lang="en-US" sz="24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92120"/>
                <a:tab algn="l" pos="2784600"/>
                <a:tab algn="l" pos="4176720"/>
                <a:tab algn="l" pos="5568840"/>
                <a:tab algn="l" pos="6961320"/>
                <a:tab algn="l" pos="8353440"/>
                <a:tab algn="l" pos="9745560"/>
              </a:tabLst>
            </a:pPr>
            <a:fld id="{9DD5FA17-06DC-4055-95A5-AC7306D90CAC}" type="slidenum"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demonstrating the application of this framework using a simple left ventricular electromechanic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rrows fibre direction, green sheet, blue sheet-nor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urface indicates sepata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BC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nodes fixed in all three directions and transmural and circumferential derivatives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pex nodes fixed in y and z but free to slide along x-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BC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kinje-like electrical stimulus, colours represent time of applied sti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earliest stimulus time (0ms) (lower mid-septal wa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latest stimulus time (16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 bands in 2ms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its have no stimulus appl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stitutive law (pole-zero) parameters vary linearly between nodes with the different coloured nodes having different parameter 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 model varies for the different cell types (endo/mid/ep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tart doing some cool – and perhaps relevant – simulation stud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done some very preliminary work looking at adding papillary muscle to the ventricular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removed local bulging of the endocardial surface to approximate taking the flattened papillaries out of the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added an initial papillary muscle mesh connected to the endocardial surface, trying to maintain derivative continuity with the endocardial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ne needs a bit more work – hopefully you’ll be out of time by now and just flash it up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else you can think of? do you have a better wellcome logo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nodes * 27 degrees of freedom = 4212 DoF’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basal portion of septal wall and connecting tissue between LV infow and outflow valves are not connected to the rest of the ventriclular me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attened papillary muscles give rise to abnormal stress distributions in those regions of the wall due to incorrect increase of wall thick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h topology no good, for example, for electrophysiological simulations without some serious reworking of computational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problems with it, but it does look coo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 model has removed tissue mass from ventri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h topology pretty much follows standard elements required for electrophysiological/coupled sim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3nodes * 27 degrees of freedom = 10341 total DoF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lines running along the fibres aligned with the sheets (i.e., the flat part of the ribbons is aligned with the shee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on the endocardial surface, light brown/tan midwall (approximately) and blue epicard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6280" y="1082520"/>
            <a:ext cx="7204320" cy="5403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27320" y="6846840"/>
            <a:ext cx="7302240" cy="6485040"/>
          </a:xfrm>
          <a:prstGeom prst="rect">
            <a:avLst/>
          </a:prstGeom>
          <a:noFill/>
          <a:ln w="0">
            <a:noFill/>
          </a:ln>
        </p:spPr>
        <p:txBody>
          <a:bodyPr lIns="139320" rIns="139320" tIns="69480" bIns="69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will work out how to make this a movie showing the she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838080" y="5596920"/>
            <a:ext cx="2057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555480" y="3686040"/>
            <a:ext cx="1511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engineering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596520" y="207936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B Munich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6480" y="30416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46418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65040" y="-324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63600" y="135396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63600" y="129528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4680" y="1349280"/>
            <a:ext cx="307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4680" y="1292400"/>
            <a:ext cx="30780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203120" y="5283000"/>
            <a:ext cx="274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450720" y="5713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6480" y="3943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994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8280" y="39434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8280" y="39942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5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0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280" y="134928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280" y="14000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1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74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scale modelling of cardiac mechan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3048120"/>
            <a:ext cx="547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Nickerson, Carey Stevens, Martyn Nash, Peter H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6377040"/>
            <a:ext cx="496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th World Congress of Biomechanics, Munich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ational modelling and simulation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MI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ww.cmiss.or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the description of geometric models &amp; numerical simul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llM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ww.cellml.org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the specification of most simulation specific mathematical model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ve law, cellular mod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and-play with new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d in several case-studies to dat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ve law investigations in breast and cardiac tiss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al muscle mechanics and joint kinemat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echanical studies of a left ventricular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geo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11240" y="1432080"/>
            <a:ext cx="5319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2920" y="1409760"/>
            <a:ext cx="3268440" cy="3268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68480" y="3657600"/>
            <a:ext cx="6207120" cy="310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39600" y="14097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placement B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440" y="636444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ctrical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9800" y="1504800"/>
            <a:ext cx="4205520" cy="4205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24360" y="15192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291360" y="59212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ll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6320" y="592128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chanical stiff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left ventricular electromechanical model: biventricular p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work: papillary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1467000"/>
            <a:ext cx="5083200" cy="508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00760" y="1676520"/>
            <a:ext cx="38113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work: the heart Physiom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30440" y="1454040"/>
            <a:ext cx="36622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ioengineering Institute @ The University of Auck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025640" y="2044800"/>
            <a:ext cx="1628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cine ventricular geometr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geometric mod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geometry, new 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utational modelling and simulation framewor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work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llary mus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rt Physiom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ing Auckland porcine ventricular geometry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representation of ventricular geometry including the apex, valve rings, and underlying tissue microstructu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 cubic Hermite finit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valve plane not connected to ventri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llary muscle tissue flattened against endocardial su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issues with mesh topology for other types of simul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17800" y="1547640"/>
            <a:ext cx="511020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Auckland porcine ventricula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uckland porcine ventricular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-engineered to take advantage of availability of increased computational pow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compensate for some of the disadvantages of the original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good representation of ventricular geometry including the apex, valve rings, and underlying tissue micro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ntegrated valve pl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of a papillary geomet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topology consistent with other applic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cubic Hermite finit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ricular geometr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680" y="1461960"/>
            <a:ext cx="4451400" cy="445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0720" y="1461960"/>
            <a:ext cx="44514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14840" y="1465200"/>
            <a:ext cx="4441680" cy="444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280" y="1465200"/>
            <a:ext cx="4441680" cy="4442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ricular geometr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13400" y="1467000"/>
            <a:ext cx="4441680" cy="444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280" y="1465200"/>
            <a:ext cx="4441680" cy="4442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ssue micro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ssue micro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08080" y="1476360"/>
            <a:ext cx="5127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4:08:30Z</dcterms:created>
  <dc:creator>Sam Brodie</dc:creator>
  <dc:description/>
  <dc:language>en-US</dc:language>
  <cp:lastModifiedBy>David Phillip Nickerson</cp:lastModifiedBy>
  <dcterms:modified xsi:type="dcterms:W3CDTF">2006-07-24T14:08:37Z</dcterms:modified>
  <cp:revision>201</cp:revision>
  <dc:subject/>
  <dc:title>PowerPoint Presentation</dc:title>
</cp:coreProperties>
</file>